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EEDE-076B-4D88-9D85-AB3CABDC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268C-B4AA-4EE4-AC6D-E039FD4F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E157-1CA1-4CB6-8FB0-739EA37B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B822-D843-4970-ADE7-1F23BA17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4507-34BD-41BB-BCF6-0B65F623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F68A-AECD-4425-A637-4BB75374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8A5-0F66-46D4-BF85-6D96C67D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BEC3-30A2-4C3A-A8BD-2D4C172E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BFC-74D7-41C8-B52B-44A3A1DF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B28-3814-46E9-B0AD-6262BF09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B8BA-84B0-4BF7-9EB1-A4CF06BD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66D1-CA96-4225-9E1E-71EAD944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BFB4-FC73-4F03-91E6-C5169BA7F6E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5c5cd6"/>
                </a:solidFill>
                <a:latin typeface="Tempus Sans ITC"/>
              </a:rPr>
              <a:t>CREANDO CONCIENCI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5df21"/>
                </a:solidFill>
                <a:latin typeface="Lucida Handwriting"/>
              </a:rPr>
              <a:t>¿ SE TRATA DE UN SISTEMA PARA MEJORAR</a:t>
            </a:r>
            <a:br>
              <a:rPr sz="4800"/>
            </a:br>
            <a:r>
              <a:rPr b="0" lang="en-US" sz="4800" spc="-1" strike="noStrike">
                <a:solidFill>
                  <a:srgbClr val="65df21"/>
                </a:solidFill>
                <a:latin typeface="Lucida Handwriting"/>
              </a:rPr>
              <a:t>LA CALIDAD AMBIENTAL DEL CENTRO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Lucida Handwriting"/>
              </a:rPr>
              <a:t> </a:t>
            </a:r>
            <a:r>
              <a:rPr b="1" lang="en-US" sz="4000" spc="-1" strike="noStrike">
                <a:solidFill>
                  <a:srgbClr val="990099"/>
                </a:solidFill>
                <a:latin typeface="Tempus Sans ITC"/>
              </a:rPr>
              <a:t>Por supuesto, 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Tempus Sans ITC"/>
              </a:rPr>
              <a:t>pero también de un </a:t>
            </a:r>
            <a:r>
              <a:rPr b="1" lang="en-US" sz="5400" spc="-1" strike="noStrike">
                <a:solidFill>
                  <a:srgbClr val="990099"/>
                </a:solidFill>
                <a:latin typeface="Tempus Sans ITC"/>
              </a:rPr>
              <a:t>proceso</a:t>
            </a:r>
            <a:br>
              <a:rPr sz="5400"/>
            </a:br>
            <a:r>
              <a:rPr b="1" lang="en-US" sz="5400" spc="-1" strike="noStrike">
                <a:solidFill>
                  <a:srgbClr val="990099"/>
                </a:solidFill>
                <a:latin typeface="Tempus Sans ITC"/>
              </a:rPr>
              <a:t>educativo</a:t>
            </a:r>
            <a:r>
              <a:rPr b="1" lang="en-US" sz="4000" spc="-1" strike="noStrike">
                <a:solidFill>
                  <a:srgbClr val="990099"/>
                </a:solidFill>
                <a:latin typeface="Tempus Sans ITC"/>
              </a:rPr>
              <a:t> destinado a afianzar comportamientos y</a:t>
            </a:r>
            <a:br>
              <a:rPr sz="4000"/>
            </a:br>
            <a:r>
              <a:rPr b="1" lang="en-US" sz="5400" spc="-1" strike="noStrike">
                <a:solidFill>
                  <a:srgbClr val="990099"/>
                </a:solidFill>
                <a:latin typeface="Tempus Sans ITC"/>
              </a:rPr>
              <a:t>compromisos entre la comunidad escol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80880"/>
            <a:ext cx="838188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8b55"/>
                </a:solidFill>
                <a:latin typeface="Lucida Handwriting"/>
              </a:rPr>
              <a:t>SE TRATA DE UN PROCESO EN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Lucida Handwriting"/>
              <a:buChar char="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Lucida Handwriting"/>
              </a:rPr>
              <a:t>Se detectan los problemas ambientales del cen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Lucida Handwriting"/>
              <a:buChar char="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Lucida Handwriting"/>
              </a:rPr>
              <a:t>Se proponen medidas concretas para solucionar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5360" y="2209680"/>
            <a:ext cx="34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8b55"/>
                </a:solidFill>
                <a:latin typeface="Lucida Handwriting"/>
              </a:rPr>
              <a:t>¿Y QUIÉN INTERVIE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8520" y="2755800"/>
            <a:ext cx="436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Lucida Handwriting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Lucida Handwriting"/>
              </a:rPr>
              <a:t>Las asociaciones de padres y mad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Lucida Handwriting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Lucida Handwriting"/>
              </a:rPr>
              <a:t>La d i r e c c i ó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Lucida Handwriting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Lucida Handwriting"/>
              </a:rPr>
              <a:t>El personal no doc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Lucida Handwriting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Lucida Handwriting"/>
              </a:rPr>
              <a:t>El alum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Lucida Handwriting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Lucida Handwriting"/>
              </a:rPr>
              <a:t>El profeso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5486400"/>
            <a:ext cx="8763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Su papel más importante será hacer de la ecoauditoría algo participativo, 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la que los alumnos sientan que están trabajando para mejorar su centro, y que su trabajo es úti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importante y reconoci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371600"/>
            <a:ext cx="830592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1.  ORGANIZACIÓN Y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Handwriting"/>
              </a:rPr>
              <a:t>Informar a la comunidad educativa </a:t>
            </a:r>
            <a:r>
              <a:rPr b="0" lang="en-US" sz="1600" spc="-1" strike="noStrike">
                <a:solidFill>
                  <a:srgbClr val="3333cc"/>
                </a:solidFill>
                <a:latin typeface="Lucida Handwriting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</a:t>
            </a:r>
            <a:r>
              <a:rPr b="0" lang="en-US" sz="1600" spc="-1" strike="noStrike">
                <a:solidFill>
                  <a:srgbClr val="3333cc"/>
                </a:solidFill>
                <a:latin typeface="Lucida Handwriting"/>
              </a:rPr>
              <a:t>  RED ECOS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</a:t>
            </a:r>
            <a:r>
              <a:rPr b="0" lang="en-US" sz="1600" spc="-1" strike="noStrike">
                <a:solidFill>
                  <a:srgbClr val="3333cc"/>
                </a:solidFill>
                <a:latin typeface="Lucida Handwriting"/>
              </a:rPr>
              <a:t>  “captación 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Handwriting"/>
              </a:rPr>
              <a:t>Formar el COMITÉ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2. PLAN DE 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Handwriting"/>
              </a:rPr>
              <a:t>Se establecen objetivos. Qué hacer para mejorar la situación</a:t>
            </a:r>
            <a:r>
              <a:rPr b="0" lang="en-US" sz="1600" spc="-1" strike="noStrike">
                <a:solidFill>
                  <a:srgbClr val="ff9900"/>
                </a:solidFill>
                <a:latin typeface="Lucida Handwriting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3. 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Handwriting"/>
              </a:rPr>
              <a:t>Se pone en marcha lo program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4. 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Handwriting"/>
              </a:rPr>
              <a:t>Ver si se ha conseguido los objetivos y corregir los fal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5. DIF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Handwriting"/>
              </a:rPr>
              <a:t>Difundir los logr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8088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one trabajar siguiendo una planificación cuyos pas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¿Qué podemos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hacer nosotr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60958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bc523"/>
                </a:solidFill>
                <a:latin typeface="Tempus Sans ITC"/>
              </a:rPr>
              <a:t>3 R’</a:t>
            </a:r>
            <a:r>
              <a:rPr b="0" lang="en-US" sz="7200" spc="-1" strike="noStrike" baseline="30000">
                <a:solidFill>
                  <a:srgbClr val="1bc523"/>
                </a:solidFill>
                <a:latin typeface="Tempus Sans ITC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1bc523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bc523"/>
                </a:solidFill>
                <a:latin typeface="Lucida Handwriting"/>
              </a:rPr>
              <a:t>REDUCI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1bc523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bc523"/>
                </a:solidFill>
                <a:latin typeface="Lucida Handwriting"/>
              </a:rPr>
              <a:t>REUTILIZ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1bc523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bc523"/>
                </a:solidFill>
                <a:latin typeface="Lucida Handwriting"/>
              </a:rPr>
              <a:t>RECICL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Lucida Handwriting"/>
              </a:rPr>
              <a:t>REDUCI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Lucida Handwriting"/>
              </a:rPr>
              <a:t>EL GASTO DE AGU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Lucida Handwriting"/>
              </a:rPr>
              <a:t>REDUCI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107e15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07e15"/>
                </a:solidFill>
                <a:latin typeface="Lucida Handwriting"/>
              </a:rPr>
              <a:t>EL GASTO DE PAP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Lucida Handwriting"/>
              </a:rPr>
              <a:t>REDUCI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Lucida Handwriting"/>
              </a:rPr>
              <a:t>EL GASTO DE LUZ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971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97325"/>
                </a:solidFill>
                <a:latin typeface="Lucida Handwriting"/>
              </a:rPr>
              <a:t>RED ECOS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Lucida Handwriting"/>
              </a:rPr>
              <a:t>REDUCI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8080"/>
                </a:solidFill>
                <a:latin typeface="Lucida Handwriting"/>
              </a:rPr>
              <a:t>EL GASTO DE TIN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radley Hand ITC"/>
              </a:rPr>
              <a:t>REUTILIZ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90000"/>
              </a:lnSpc>
              <a:spcBef>
                <a:spcPts val="22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Bradley Hand ITC"/>
              </a:rPr>
              <a:t>EL PAPEL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radley Hand ITC"/>
              </a:rPr>
              <a:t>REUTILIZ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radley Hand ITC"/>
              </a:rPr>
              <a:t>EL AGU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Lucida Handwriting"/>
              </a:rPr>
              <a:t>SEPARAR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Lucida Handwriting"/>
              </a:rPr>
              <a:t>PARA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Lucida Handwriting"/>
              </a:rPr>
              <a:t>RECICLAR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914400" y="525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32b0d"/>
                </a:solidFill>
                <a:latin typeface="Lucida Handwriting"/>
              </a:rPr>
              <a:t>EL PAP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ff"/>
                </a:solidFill>
                <a:latin typeface="Lucida Handwriting"/>
              </a:rPr>
              <a:t>EL PLÁSTIC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1c1c1c"/>
                </a:solidFill>
                <a:latin typeface="Lucida Handwriting"/>
              </a:rPr>
              <a:t>LAS LAT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3333cc"/>
                </a:solidFill>
                <a:latin typeface="Lucida Handwriting"/>
              </a:rPr>
              <a:t>LAS PIL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bc523"/>
                </a:solidFill>
                <a:latin typeface="Tempus Sans ITC"/>
              </a:rPr>
              <a:t>vide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6000" spc="-1" strike="noStrike">
              <a:solidFill>
                <a:srgbClr val="1bc523"/>
              </a:solidFill>
              <a:latin typeface="Lucida Handwriting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762120"/>
            <a:ext cx="7391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Lucida Handwriting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Lucida Handwriting"/>
              </a:rPr>
              <a:t>Un gran viaje comienza con un pequeño pas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Lucida Handwriting"/>
              </a:rPr>
              <a:t>La motivación es lo que te hace empezar, el hábito lo que te mantiene andando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07e15"/>
                </a:solidFill>
                <a:latin typeface="Tempus Sans ITC"/>
              </a:rPr>
              <a:t>Red Canaria </a:t>
            </a:r>
            <a:br>
              <a:rPr sz="6600"/>
            </a:br>
            <a:r>
              <a:rPr b="1" lang="en-US" sz="6600" spc="-1" strike="noStrike">
                <a:solidFill>
                  <a:srgbClr val="107e15"/>
                </a:solidFill>
                <a:latin typeface="Tempus Sans ITC"/>
              </a:rPr>
              <a:t>de Centros Educativos </a:t>
            </a:r>
            <a:br>
              <a:rPr sz="6600"/>
            </a:br>
            <a:r>
              <a:rPr b="1" lang="en-US" sz="6600" spc="-1" strike="noStrike">
                <a:solidFill>
                  <a:srgbClr val="107e15"/>
                </a:solidFill>
                <a:latin typeface="Tempus Sans ITC"/>
              </a:rPr>
              <a:t>para la </a:t>
            </a:r>
            <a:br>
              <a:rPr sz="6600"/>
            </a:br>
            <a:r>
              <a:rPr b="1" lang="en-US" sz="6600" spc="-1" strike="noStrike">
                <a:solidFill>
                  <a:srgbClr val="107e15"/>
                </a:solidFill>
                <a:latin typeface="Tempus Sans ITC"/>
              </a:rPr>
              <a:t>Sostenibilidad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371600" y="3962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Lucida Handwriting"/>
              </a:rPr>
              <a:t>EL MUNDO ESTÁ EN TUS MAN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Lucida Handwriting"/>
              </a:rPr>
              <a:t>RECUERD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Lucida Handwriting"/>
              </a:rPr>
              <a:t>RED ECO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Lucida Handwriting"/>
              </a:rPr>
              <a:t>IES LOS NARANJER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Handwriting"/>
              </a:rPr>
              <a:t>Coordinadora: Antonia Qui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¿</a:t>
            </a:r>
            <a:r>
              <a:rPr b="0" lang="en-US" sz="6000" spc="-1" strike="noStrike">
                <a:solidFill>
                  <a:srgbClr val="ffffff"/>
                </a:solidFill>
                <a:latin typeface="Tempus Sans ITC"/>
              </a:rPr>
              <a:t>Sostenibilidad</a:t>
            </a: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99"/>
                </a:solidFill>
                <a:latin typeface="Tempus Sans ITC"/>
              </a:rPr>
              <a:t>¿Qué pretende la </a:t>
            </a:r>
            <a:br>
              <a:rPr sz="6600"/>
            </a:br>
            <a:r>
              <a:rPr b="1" lang="en-US" sz="6600" spc="-1" strike="noStrike">
                <a:solidFill>
                  <a:srgbClr val="ffff99"/>
                </a:solidFill>
                <a:latin typeface="Tempus Sans ITC"/>
              </a:rPr>
              <a:t>Red Eco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s-ES" sz="4000" spc="-1" strike="noStrike">
                <a:solidFill>
                  <a:srgbClr val="c90128"/>
                </a:solidFill>
                <a:latin typeface="Lucida Handwriting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c90128"/>
                </a:solidFill>
                <a:latin typeface="Lucida Handwriting"/>
              </a:rPr>
              <a:t>	</a:t>
            </a:r>
            <a:r>
              <a:rPr b="0" lang="es-ES" sz="4000" spc="-1" strike="noStrike">
                <a:solidFill>
                  <a:srgbClr val="c90128"/>
                </a:solidFill>
                <a:latin typeface="Lucida Handwriting"/>
              </a:rPr>
              <a:t>	</a:t>
            </a:r>
            <a:r>
              <a:rPr b="0" lang="es-ES" sz="4000" spc="-1" strike="noStrike">
                <a:solidFill>
                  <a:srgbClr val="c90128"/>
                </a:solidFill>
                <a:latin typeface="Lucida Handwriting"/>
              </a:rPr>
              <a:t>	</a:t>
            </a:r>
            <a:r>
              <a:rPr b="0" lang="es-ES" sz="4000" spc="-1" strike="noStrike">
                <a:solidFill>
                  <a:srgbClr val="c90128"/>
                </a:solidFill>
                <a:latin typeface="Lucida Handwriting"/>
              </a:rPr>
              <a:t>	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c90128"/>
                </a:solidFill>
                <a:latin typeface="Lucida Handwriting"/>
              </a:rPr>
              <a:t>	</a:t>
            </a:r>
            <a:r>
              <a:rPr b="0" lang="es-ES" sz="4000" spc="-1" strike="noStrike">
                <a:solidFill>
                  <a:srgbClr val="c90128"/>
                </a:solidFill>
                <a:latin typeface="Lucida Handwriting"/>
              </a:rPr>
              <a:t>	</a:t>
            </a:r>
            <a:r>
              <a:rPr b="0" lang="es-ES" sz="4000" spc="-1" strike="noStrike">
                <a:solidFill>
                  <a:srgbClr val="c90128"/>
                </a:solidFill>
                <a:latin typeface="Lucida Handwriting"/>
              </a:rPr>
              <a:t>	</a:t>
            </a:r>
            <a:r>
              <a:rPr b="0" lang="es-ES" sz="4800" spc="-1" strike="noStrike">
                <a:solidFill>
                  <a:srgbClr val="ffff99"/>
                </a:solidFill>
                <a:latin typeface="Kristen ITC"/>
              </a:rPr>
              <a:t>educar en</a:t>
            </a:r>
            <a:br>
              <a:rPr sz="4800"/>
            </a:br>
            <a:r>
              <a:rPr b="0" lang="es-ES" sz="4800" spc="-1" strike="noStrike">
                <a:solidFill>
                  <a:srgbClr val="ffff99"/>
                </a:solidFill>
                <a:latin typeface="Kristen ITC"/>
              </a:rPr>
              <a:t>	</a:t>
            </a:r>
            <a:r>
              <a:rPr b="0" lang="es-ES" sz="4800" spc="-1" strike="noStrike">
                <a:solidFill>
                  <a:srgbClr val="ffff99"/>
                </a:solidFill>
                <a:latin typeface="Kristen ITC"/>
              </a:rPr>
              <a:t>	</a:t>
            </a:r>
            <a:r>
              <a:rPr b="0" lang="es-ES" sz="4800" spc="-1" strike="noStrike">
                <a:solidFill>
                  <a:srgbClr val="ffff99"/>
                </a:solidFill>
                <a:latin typeface="Kristen ITC"/>
              </a:rPr>
              <a:t>valores ambient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empus Sans ITC"/>
              </a:rPr>
              <a:t>A través 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97325"/>
                </a:solidFill>
                <a:latin typeface="Bradley Hand ITC"/>
              </a:rPr>
              <a:t>LA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97325"/>
                </a:solidFill>
                <a:latin typeface="Bradley Hand ITC"/>
              </a:rPr>
              <a:t>ECOAUDITORÍ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97325"/>
                </a:solidFill>
                <a:latin typeface="Bradley Hand ITC"/>
              </a:rPr>
              <a:t>ESCOL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2a70"/>
                </a:solidFill>
                <a:latin typeface="Kristen ITC"/>
              </a:rPr>
              <a:t>...Pero ¿QUÉ ES UNA</a:t>
            </a:r>
            <a:br>
              <a:rPr sz="6000"/>
            </a:br>
            <a:r>
              <a:rPr b="0" lang="en-US" sz="6000" spc="-1" strike="noStrike">
                <a:solidFill>
                  <a:srgbClr val="662a70"/>
                </a:solidFill>
                <a:latin typeface="Kristen ITC"/>
              </a:rPr>
              <a:t>ECOAUDITORÍA</a:t>
            </a:r>
            <a:br>
              <a:rPr sz="6000"/>
            </a:br>
            <a:r>
              <a:rPr b="0" lang="en-US" sz="6000" spc="-1" strike="noStrike">
                <a:solidFill>
                  <a:srgbClr val="662a70"/>
                </a:solidFill>
                <a:latin typeface="Kristen ITC"/>
              </a:rPr>
              <a:t>ESCOLAR?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5:32Z</dcterms:created>
  <dc:creator>ADG</dc:creator>
  <dc:description/>
  <dc:language>en-US</dc:language>
  <cp:lastModifiedBy>ADG</cp:lastModifiedBy>
  <dcterms:modified xsi:type="dcterms:W3CDTF">2009-10-14T08:41:43Z</dcterms:modified>
  <cp:revision>38</cp:revision>
  <dc:subject/>
  <dc:title>Presentación de PowerPoint</dc:title>
</cp:coreProperties>
</file>